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430200" indent="-324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430200" indent="-324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430200" indent="-324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430200" indent="-324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sj.de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SJ CD Writ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57120"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588960"/>
                <a:tab algn="l" pos="1038240"/>
                <a:tab algn="l" pos="1487520"/>
                <a:tab algn="l" pos="1936800"/>
                <a:tab algn="l" pos="2386080"/>
                <a:tab algn="l" pos="2835360"/>
                <a:tab algn="l" pos="3284640"/>
                <a:tab algn="l" pos="3733920"/>
                <a:tab algn="l" pos="4183200"/>
                <a:tab algn="l" pos="4632480"/>
                <a:tab algn="l" pos="5081760"/>
                <a:tab algn="l" pos="5530680"/>
                <a:tab algn="l" pos="5979960"/>
                <a:tab algn="l" pos="6429240"/>
                <a:tab algn="l" pos="6878520"/>
                <a:tab algn="l" pos="7327800"/>
                <a:tab algn="l" pos="7777080"/>
                <a:tab algn="l" pos="8226360"/>
                <a:tab algn="l" pos="8675640"/>
                <a:tab algn="l" pos="9124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  <a:ea typeface="Arial Unicode MS"/>
              </a:rPr>
              <a:t>Professional CD and DVD recording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lvl="1" marL="357120" indent="0" algn="ctr">
              <a:lnSpc>
                <a:spcPct val="95000"/>
              </a:lnSpc>
              <a:buNone/>
              <a:tabLst>
                <a:tab algn="l" pos="0"/>
                <a:tab algn="l" pos="357120"/>
                <a:tab algn="l" pos="588960"/>
                <a:tab algn="l" pos="1038240"/>
                <a:tab algn="l" pos="1487520"/>
                <a:tab algn="l" pos="1936800"/>
                <a:tab algn="l" pos="2386080"/>
                <a:tab algn="l" pos="2835360"/>
                <a:tab algn="l" pos="3284640"/>
                <a:tab algn="l" pos="3733920"/>
                <a:tab algn="l" pos="4183200"/>
                <a:tab algn="l" pos="4632480"/>
                <a:tab algn="l" pos="5081760"/>
                <a:tab algn="l" pos="5530680"/>
                <a:tab algn="l" pos="5979960"/>
                <a:tab algn="l" pos="6429240"/>
                <a:tab algn="l" pos="6878520"/>
                <a:tab algn="l" pos="7327800"/>
                <a:tab algn="l" pos="7777080"/>
                <a:tab algn="l" pos="8226360"/>
                <a:tab algn="l" pos="8675640"/>
                <a:tab algn="l" pos="9124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 Unicode MS"/>
              </a:rPr>
              <a:t>Rüdiger Jungbec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357120" indent="0" algn="ctr">
              <a:lnSpc>
                <a:spcPct val="95000"/>
              </a:lnSpc>
              <a:buNone/>
              <a:tabLst>
                <a:tab algn="l" pos="0"/>
                <a:tab algn="l" pos="357120"/>
                <a:tab algn="l" pos="588960"/>
                <a:tab algn="l" pos="1038240"/>
                <a:tab algn="l" pos="1487520"/>
                <a:tab algn="l" pos="1936800"/>
                <a:tab algn="l" pos="2386080"/>
                <a:tab algn="l" pos="2835360"/>
                <a:tab algn="l" pos="3284640"/>
                <a:tab algn="l" pos="3733920"/>
                <a:tab algn="l" pos="4183200"/>
                <a:tab algn="l" pos="4632480"/>
                <a:tab algn="l" pos="5081760"/>
                <a:tab algn="l" pos="5530680"/>
                <a:tab algn="l" pos="5979960"/>
                <a:tab algn="l" pos="6429240"/>
                <a:tab algn="l" pos="6878520"/>
                <a:tab algn="l" pos="7327800"/>
                <a:tab algn="l" pos="7777080"/>
                <a:tab algn="l" pos="8226360"/>
                <a:tab algn="l" pos="8675640"/>
                <a:tab algn="l" pos="9124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 Unicode MS"/>
              </a:rPr>
              <a:t>RSJ Software GmbH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SO 9660 Filesyste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irectory Structur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ata CD / DV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SO 9660 Filesyste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ootable C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ootable C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udio C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 At Once (TAO)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sk At Once (DAO)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reeDB Title Inform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Cover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gg Vorb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rack At On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udio Da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b Chann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rchitectur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river RSJSCSI.SY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ilter LOCKCDR.FL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ilesystem CDWFS.IF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aemon CDWFSD.EX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cess CDATTACH.EX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cess CDVIEW.EX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rchitectur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utom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atch File Programm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gram Integr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atch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ilesyste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9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COPY DATA.DAT Z: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ATTA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9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CDATTACH Z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9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CDATTACH Z: -S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CP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9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TRACKCPY -copy c:data.iso cdr: -qui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9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Courier New"/>
              </a:rPr>
              <a:t>TRACKCPY -finalize cdr: -qui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o we ar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SJ Software Gmb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unded 1985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 Writ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ftware Developmen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oint of Sa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stly project bas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gram Integr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S/2 Filesystem AP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Open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Read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Write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Close()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SJ CD Writer AP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FsAttach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sFsCtl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pyToCD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XCopyToCd(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ID Install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mand line controlled install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WOS2 /cid /wps /cdwpo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vailable for multiple Platform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S/2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C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95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98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Me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NT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2000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ndows  XP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rver 2003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urther Inform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sj.d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istory of RSJ CD Writ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ynamicly extended da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ORM (Write once read multiple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V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D / DV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edi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ma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ed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D 650 MB – 700 MB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D-RW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VD 4,5 GB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-RAM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-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-RW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+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+RW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VD+R DL (8,5 GB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racks &amp; Sessio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68760" y="1676520"/>
            <a:ext cx="5010120" cy="501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85840" y="2246400"/>
            <a:ext cx="2067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cc"/>
                </a:solidFill>
                <a:latin typeface="Arial"/>
              </a:rPr>
              <a:t>Session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5840" y="2732040"/>
            <a:ext cx="5140440" cy="1800"/>
          </a:xfrm>
          <a:prstGeom prst="line">
            <a:avLst/>
          </a:prstGeom>
          <a:ln w="7200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5840" y="3127320"/>
            <a:ext cx="2067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cc"/>
                </a:solidFill>
                <a:latin typeface="Arial"/>
              </a:rPr>
              <a:t>Track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3611520"/>
            <a:ext cx="4960800" cy="1800"/>
          </a:xfrm>
          <a:prstGeom prst="line">
            <a:avLst/>
          </a:prstGeom>
          <a:ln w="7200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85840" y="4079880"/>
            <a:ext cx="2067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cc"/>
                </a:solidFill>
                <a:latin typeface="Arial"/>
              </a:rPr>
              <a:t>Track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5840" y="4564080"/>
            <a:ext cx="4456080" cy="1440"/>
          </a:xfrm>
          <a:prstGeom prst="line">
            <a:avLst/>
          </a:prstGeom>
          <a:ln w="7200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racks &amp; Sessio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orma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SO 9660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ckrid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oliet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udio C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ideo C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SO 9660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imary Volume Descript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plimentary Volume Descript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Jolie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l Torito (Bootable CD)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rector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th Tab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RSJ CD Writer</dc:title>
</cp:coreProperties>
</file>