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0"/>
            <a:ext cx="68551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0"/>
            <a:ext cx="68551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38600" y="6553080"/>
            <a:ext cx="2895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Exigen 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729640" y="6575400"/>
            <a:ext cx="363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B98F3647-0768-4FF0-964F-CA83D6E35ED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811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38600" y="286236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49680" y="2603520"/>
            <a:ext cx="4108320" cy="19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38600" y="286236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4419720"/>
            <a:ext cx="730728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9880" y="4536720"/>
            <a:ext cx="7543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OS/2 Device Driver Support / USB 2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5257800"/>
            <a:ext cx="2743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ris Berz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modrisb@exigengroup.l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S/2 &amp; US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6296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developmen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ed driver support for USB 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ed USB 2.0 support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16200" y="237960"/>
            <a:ext cx="6858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ck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90520" y="2057400"/>
            <a:ext cx="1324080" cy="457200"/>
            <a:chOff x="1190520" y="2057400"/>
            <a:chExt cx="1324080" cy="457200"/>
          </a:xfrm>
        </p:grpSpPr>
        <p:sp>
          <p:nvSpPr>
            <p:cNvPr id="105" name=""/>
            <p:cNvSpPr/>
            <p:nvPr/>
          </p:nvSpPr>
          <p:spPr>
            <a:xfrm>
              <a:off x="1190520" y="2057400"/>
              <a:ext cx="132408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90520" y="2184480"/>
              <a:ext cx="13240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00800" y="2057400"/>
            <a:ext cx="1324080" cy="457200"/>
            <a:chOff x="6400800" y="2057400"/>
            <a:chExt cx="1324080" cy="457200"/>
          </a:xfrm>
        </p:grpSpPr>
        <p:sp>
          <p:nvSpPr>
            <p:cNvPr id="108" name=""/>
            <p:cNvSpPr/>
            <p:nvPr/>
          </p:nvSpPr>
          <p:spPr>
            <a:xfrm>
              <a:off x="6400800" y="2057400"/>
              <a:ext cx="132408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2184480"/>
              <a:ext cx="13240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9000" y="2057400"/>
            <a:ext cx="1828800" cy="457200"/>
            <a:chOff x="3429000" y="2057400"/>
            <a:chExt cx="1828800" cy="457200"/>
          </a:xfrm>
        </p:grpSpPr>
        <p:sp>
          <p:nvSpPr>
            <p:cNvPr id="111" name=""/>
            <p:cNvSpPr/>
            <p:nvPr/>
          </p:nvSpPr>
          <p:spPr>
            <a:xfrm>
              <a:off x="3429000" y="2057400"/>
              <a:ext cx="182880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218448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57600" y="3200400"/>
            <a:ext cx="1371600" cy="685800"/>
            <a:chOff x="3657600" y="3200400"/>
            <a:chExt cx="1371600" cy="685800"/>
          </a:xfrm>
        </p:grpSpPr>
        <p:sp>
          <p:nvSpPr>
            <p:cNvPr id="114" name=""/>
            <p:cNvSpPr/>
            <p:nvPr/>
          </p:nvSpPr>
          <p:spPr>
            <a:xfrm>
              <a:off x="3657600" y="3200400"/>
              <a:ext cx="13716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3441960"/>
              <a:ext cx="13716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5035680"/>
            <a:ext cx="1808280" cy="717480"/>
            <a:chOff x="914400" y="5035680"/>
            <a:chExt cx="1808280" cy="717480"/>
          </a:xfrm>
        </p:grpSpPr>
        <p:sp>
          <p:nvSpPr>
            <p:cNvPr id="117" name=""/>
            <p:cNvSpPr/>
            <p:nvPr/>
          </p:nvSpPr>
          <p:spPr>
            <a:xfrm>
              <a:off x="914400" y="5035680"/>
              <a:ext cx="180828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5293080"/>
              <a:ext cx="18082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29000" y="4572000"/>
            <a:ext cx="1828800" cy="717480"/>
            <a:chOff x="3429000" y="4572000"/>
            <a:chExt cx="1828800" cy="717480"/>
          </a:xfrm>
        </p:grpSpPr>
        <p:sp>
          <p:nvSpPr>
            <p:cNvPr id="120" name=""/>
            <p:cNvSpPr/>
            <p:nvPr/>
          </p:nvSpPr>
          <p:spPr>
            <a:xfrm>
              <a:off x="3429000" y="4572000"/>
              <a:ext cx="182880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29000" y="482940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943600" y="5029200"/>
            <a:ext cx="1828800" cy="717480"/>
            <a:chOff x="5943600" y="5029200"/>
            <a:chExt cx="1828800" cy="717480"/>
          </a:xfrm>
        </p:grpSpPr>
        <p:sp>
          <p:nvSpPr>
            <p:cNvPr id="123" name=""/>
            <p:cNvSpPr/>
            <p:nvPr/>
          </p:nvSpPr>
          <p:spPr>
            <a:xfrm>
              <a:off x="5943600" y="5029200"/>
              <a:ext cx="182880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28660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914400"/>
            <a:ext cx="5257800" cy="457200"/>
            <a:chOff x="1828800" y="914400"/>
            <a:chExt cx="5257800" cy="457200"/>
          </a:xfrm>
        </p:grpSpPr>
        <p:sp>
          <p:nvSpPr>
            <p:cNvPr id="126" name=""/>
            <p:cNvSpPr/>
            <p:nvPr/>
          </p:nvSpPr>
          <p:spPr>
            <a:xfrm>
              <a:off x="1828800" y="914400"/>
              <a:ext cx="525780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28800" y="969120"/>
              <a:ext cx="52578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/2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343400" y="1371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371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27360" y="1371600"/>
            <a:ext cx="9172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5146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514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99160" y="2514600"/>
            <a:ext cx="22888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8862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7000" y="3886200"/>
            <a:ext cx="2060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8620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400" y="1358640"/>
            <a:ext cx="85345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hernet – only vendor specific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awasaki KL5KUSB101 chi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PTS controlled vendor/device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ia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 different vendor specific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 -  Future Technology Devices International FT8U100AX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- Belkin F5U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 – MCT (Magic Control Technology) USB to RS232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ndor/device ID specification through CONFIG.SYS parameters :USBSer.sys [/V] [/IDV:hhhh /IDP:hhhh /TYPE: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359000"/>
            <a:ext cx="853452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M (abstract control model / AT command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tech USB to seria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 for hard disk class (floppy drives / removables / hard disks); CDROM class and Optical de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s with predefined number of devices in each class, like:   /FLOPPIES:i /REMOVABLES:j /FIXED_DISKS:k /CDS:l /OPTICALS: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efined floppy size list, includes LS120/LS240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-LUN 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ice status monito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6400" y="1358640"/>
            <a:ext cx="85345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 rese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est cancellation with status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APM &amp; driver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led through USBD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for MSD class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ing off motor during suspend ev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Host Controller Dri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on controller for 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companion controller for 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companion controller(s) to support 1.0/1.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USB 2.0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host controll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changes in USBD/Class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 driver extension to support larger data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lass/Host Driver Extens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ed mod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herne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DN mod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devi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DA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bus USB hos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river Code 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Controll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D dri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bo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5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driver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 &amp; 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ed client/class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ed host controll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M &amp; driver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 2.0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driver ext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iver Cod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pdated Driver 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Gigabit Ethernet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DF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D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hard disk support (512G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e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tel Gigabit Eth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hipsets added - 82541GI/82543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le parame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&amp; NETBIOS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pend/resu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reached up to 57 MBps by va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mit/receive buffer counts (8-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size (regular/jum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TU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operation mode (avoid P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ug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DF 2.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pend/resu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S stops sending I/O requests to device(s) after suspend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S does not send I/O requests to device(s) before device has not completed resum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t.Raini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 extensions – verific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X 64KB cache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on sorted L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d buffer flush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DF 2.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s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ect management for CD-RW / DVD+/-R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format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background forma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of 3 different UDF revision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format performan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format suspend for CD-M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format by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DAS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6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RT comman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r information will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me code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ed detectio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Large Hard Disk Support (512GB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or per track count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cylinder count calcul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ed boot support – disk size up to 512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isk size up to 2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in OS2LVM.DMD/ OS2DASD.DMD/ LVM.DLL/ UHPF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ingleMo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fixes for systems without USB mouse inst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